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88DB-193D-412D-98B7-37347A970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5A26-85A4-4AA3-AE24-E84BF6E39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6D7E-A5CE-4A78-A1E8-3EB92C775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A4CC-3BAE-491A-9F20-8C3AFDF6D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95433-AE0E-4D5F-A212-03EE1518D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687FD-7596-43AF-B305-BCE2C254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79640-83B0-4EA0-B376-727732406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38DBC-F495-410F-A10F-F09FD46E9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45942-0AE5-4611-B81B-62A095237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67398-8AED-46E0-B710-9DCC1823E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B8BC5-6BDC-4FAC-BE21-14C181E7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05DA-974D-4D03-9CFC-50E3FB993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18372-F34A-41CE-AEF7-25ADACEC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200F3-641D-42BB-80EE-3EA91291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63E57-0EED-4F3A-A817-4B500A1F6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E13C9-8915-4F2B-989E-C8463DFB6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F5797-33D4-4553-8E25-6501CE46E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2505-9600-4D29-9A10-D23B8EAD8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5600-F17F-45FD-B286-07BBEDEB5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AE1E-950E-46B1-9ED9-1C3D78B37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A411-02D0-40AD-B820-99FA1F67E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30DE-EABC-4278-A0D3-8001C7DB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FB14-D9C0-457E-9823-0CA9F42E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44B7-8F9A-4CE2-BD35-5A3A9A15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3D5EC-CDBE-41DA-B202-299276347151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DE534-2364-45F1-B633-498833F81F00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724880" y="0"/>
            <a:ext cx="1419120" cy="1419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0" y="1268280"/>
            <a:ext cx="914400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508640"/>
            <a:ext cx="9144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ff00"/>
                </a:solidFill>
                <a:latin typeface="Arial Black"/>
              </a:rPr>
              <a:t>Бикбулатов 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ff00"/>
                </a:solidFill>
                <a:latin typeface="Arial Black"/>
              </a:rPr>
              <a:t>Тагир Ахатович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70028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Управление Роскомнадзора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по Республике Башкортостан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14172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Arial"/>
              </a:rPr>
              <a:t>Специалист-эксперт 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Arial"/>
              </a:rPr>
              <a:t>отдела по защите прав субъектов персональных данных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1700280"/>
            <a:ext cx="9144000" cy="4575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Уведомление об обработке персональных данных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565360"/>
            <a:ext cx="9144000" cy="25333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eaeaea"/>
                </a:solidFill>
                <a:uFillTx/>
                <a:latin typeface="Arial"/>
              </a:rPr>
              <a:t>Оператор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до начала обработки персональных данных </a:t>
            </a:r>
            <a:r>
              <a:rPr b="1" lang="en-US" sz="2000" spc="-1" strike="noStrike" u="sng">
                <a:solidFill>
                  <a:srgbClr val="eaeaea"/>
                </a:solidFill>
                <a:uFillTx/>
                <a:latin typeface="Arial"/>
              </a:rPr>
              <a:t>обязан уведомить уполномоченный орган по защите прав субъектов персональных данных о своем намерении осуществлять обработку персональных данных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На территории Республики Башкортостан уполномоченным органом по защите прав субъектов персональных данных является Управление Роскомнадзора по Республике Башкортостан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40464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effd5"/>
                </a:solidFill>
                <a:latin typeface="Arial"/>
              </a:rPr>
              <a:t>Обязанности оператора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724880" y="0"/>
            <a:ext cx="141912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724880" y="0"/>
            <a:ext cx="1419120" cy="14191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8358120" y="5661000"/>
            <a:ext cx="785880" cy="1197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0" y="1916280"/>
            <a:ext cx="9144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На официальном сайте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Управления Роскомнадзора по РБ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http:\</a:t>
            </a: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\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02.rsoc.ru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размещены форма уведомления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типовые образцы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рекомендации по заполнению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1916280"/>
            <a:ext cx="9144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724880" y="0"/>
            <a:ext cx="1419120" cy="14191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0" y="1916280"/>
            <a:ext cx="91440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Уведомление об обработке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персональных данных можно заполнить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в электронном виде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Заполненное уведомление необходимо распечатать, подписать руководителем и направить почтой в адрес Управления Роскомнадзора по РБ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450005, г. Уфа, ул. 50 лет Октября, 20/1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Телефон «горячей линии»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(347) 279-11-21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1916280"/>
            <a:ext cx="9144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724880" y="0"/>
            <a:ext cx="1419120" cy="14191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0" y="1916280"/>
            <a:ext cx="9144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Проверить наличие организации в Реестре 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просмотреть информацию об уведомлен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можно просмотреть на Портале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http:</a:t>
            </a: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//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pd.rsoc.ru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242100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724880" y="0"/>
            <a:ext cx="1419120" cy="1419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0" y="2637000"/>
            <a:ext cx="9144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СПАСИБО ЗА ВНИМАНИЕ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(347) 279-11-21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Основные определен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eaea"/>
                </a:solidFill>
                <a:uFillTx/>
                <a:latin typeface="Verdana"/>
              </a:rPr>
              <a:t>Персональные данные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– любая информация, относящаяся к прямо или косвенно определенному или определяемому физическому лицу (субъекту персональных данных)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724880" y="0"/>
            <a:ext cx="141912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Основные определен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eaea"/>
                </a:solidFill>
                <a:uFillTx/>
                <a:latin typeface="Verdana"/>
              </a:rPr>
              <a:t>Оператор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– государственный орган, муниципальный орган, юридическое или физическое лицо, самостоятельно или совместно с другими лицами организующие и (или) осуществляющие обработку персональных данных, а также определяющие цели обработки персональных данных, состав персональных данных, подлежащих обработке, действия (операции), совершаемые с персональными данным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724880" y="0"/>
            <a:ext cx="141912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Основные определен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eaea"/>
                </a:solidFill>
                <a:uFillTx/>
                <a:latin typeface="Verdana"/>
              </a:rPr>
              <a:t>Обработка персональных данных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– </a:t>
            </a: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любое действие (операция) или совокупность действий (операций), совершаемых с использованием средств автоматизации или без использования таких средств с персональными данными, включая сбор, запись, систематизацию, накопление, хранение, уточнение (обновление, изменение), извлечение, использование, передачу (распространение, предоставление, доступ), обезличивание, блокирование, удаление, уничтожение персональных данных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724880" y="0"/>
            <a:ext cx="141912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56908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effd5"/>
                </a:solidFill>
                <a:latin typeface="Times New Roman"/>
              </a:rPr>
              <a:t>Нормативные и правовые акты в области обеспечения безопасности персональных данных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179280" y="1052640"/>
            <a:ext cx="4176720" cy="642600"/>
          </a:xfrm>
          <a:prstGeom prst="rect">
            <a:avLst/>
          </a:prstGeom>
          <a:solidFill>
            <a:srgbClr val="cc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c1a04"/>
                </a:solidFill>
                <a:latin typeface="Arial"/>
              </a:rPr>
              <a:t>ФЗ № 152-ФЗ от 27.07.2006 года</a:t>
            </a:r>
            <a:br>
              <a:rPr sz="1800"/>
            </a:br>
            <a:r>
              <a:rPr b="0" lang="en-US" sz="1800" spc="-1" strike="noStrike">
                <a:solidFill>
                  <a:srgbClr val="9c1a04"/>
                </a:solidFill>
                <a:latin typeface="Arial"/>
              </a:rPr>
              <a:t> «О персональных данных»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Text Box 28"/>
          <p:cNvSpPr/>
          <p:nvPr/>
        </p:nvSpPr>
        <p:spPr>
          <a:xfrm>
            <a:off x="179280" y="1773360"/>
            <a:ext cx="4176720" cy="10069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eaeaea"/>
                </a:solidFill>
                <a:latin typeface="Arial"/>
              </a:rPr>
              <a:t>«Положение об обеспечения безопасности персональных данных при их обработке в ИСПД», утв. постановлением Правительства РФ № 781 от 17.11.2007 г.</a:t>
            </a:r>
            <a:endParaRPr b="0" lang="en-US" sz="15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Text Box 29"/>
          <p:cNvSpPr/>
          <p:nvPr/>
        </p:nvSpPr>
        <p:spPr>
          <a:xfrm>
            <a:off x="179280" y="4292640"/>
            <a:ext cx="4176720" cy="1006920"/>
          </a:xfrm>
          <a:prstGeom prst="rect">
            <a:avLst/>
          </a:prstGeom>
          <a:solidFill>
            <a:srgbClr val="ff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6666"/>
                </a:solidFill>
                <a:latin typeface="Arial"/>
              </a:rPr>
              <a:t>Приказ ФСТЭК России, ФСБ России, Мининформсвязи России № 55/86/20 от 13.02.2008 года «Об утверждении порядка проведения классификации ИСПД»</a:t>
            </a:r>
            <a:endParaRPr b="0" lang="en-US" sz="15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Text Box 30"/>
          <p:cNvSpPr/>
          <p:nvPr/>
        </p:nvSpPr>
        <p:spPr>
          <a:xfrm>
            <a:off x="179280" y="5516640"/>
            <a:ext cx="4176720" cy="1006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9c1a04"/>
                </a:solidFill>
                <a:latin typeface="Arial"/>
              </a:rPr>
              <a:t>Комплект методических документов ФСТЭК России в области обеспечения безопасности персональных данных при их обработке в ИСПД</a:t>
            </a:r>
            <a:endParaRPr b="0" lang="en-US" sz="15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Text Box 31"/>
          <p:cNvSpPr/>
          <p:nvPr/>
        </p:nvSpPr>
        <p:spPr>
          <a:xfrm>
            <a:off x="4788000" y="1052640"/>
            <a:ext cx="4176720" cy="8240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75755e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ФЗ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егулируются отношения, связанные с обработкой персональных данных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AutoShape 33"/>
          <p:cNvSpPr/>
          <p:nvPr/>
        </p:nvSpPr>
        <p:spPr>
          <a:xfrm>
            <a:off x="4356000" y="1050840"/>
            <a:ext cx="432000" cy="65088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ffcc"/>
              </a:gs>
              <a:gs pos="50000">
                <a:srgbClr val="006666"/>
              </a:gs>
              <a:gs pos="100000">
                <a:srgbClr val="ccffcc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Text Box 34"/>
          <p:cNvSpPr/>
          <p:nvPr/>
        </p:nvSpPr>
        <p:spPr>
          <a:xfrm>
            <a:off x="4788000" y="1773360"/>
            <a:ext cx="4176720" cy="13107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75755e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Устанавливает общие требования к обеспечению безопасности персональных данных при их обработке в информационных системах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AutoShape 35"/>
          <p:cNvSpPr/>
          <p:nvPr/>
        </p:nvSpPr>
        <p:spPr>
          <a:xfrm>
            <a:off x="4356000" y="1989000"/>
            <a:ext cx="432000" cy="65088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99ff99"/>
              </a:gs>
              <a:gs pos="50000">
                <a:srgbClr val="006666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Text Box 36"/>
          <p:cNvSpPr/>
          <p:nvPr/>
        </p:nvSpPr>
        <p:spPr>
          <a:xfrm>
            <a:off x="4788000" y="4365720"/>
            <a:ext cx="4176720" cy="8240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75755e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еляет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порядок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ведение классификации информационных систем персональных данных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AutoShape 37"/>
          <p:cNvSpPr/>
          <p:nvPr/>
        </p:nvSpPr>
        <p:spPr>
          <a:xfrm>
            <a:off x="4356000" y="4437000"/>
            <a:ext cx="432000" cy="65088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ff99"/>
              </a:gs>
              <a:gs pos="50000">
                <a:srgbClr val="006666"/>
              </a:gs>
              <a:gs pos="100000">
                <a:srgbClr val="ccff99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Text Box 38"/>
          <p:cNvSpPr/>
          <p:nvPr/>
        </p:nvSpPr>
        <p:spPr>
          <a:xfrm>
            <a:off x="4788000" y="5300640"/>
            <a:ext cx="4186080" cy="13107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75755e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авливает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конкретные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к обеспечению безопасности персональных данных при их обработке в информационных системах персональных данных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AutoShape 39"/>
          <p:cNvSpPr/>
          <p:nvPr/>
        </p:nvSpPr>
        <p:spPr>
          <a:xfrm>
            <a:off x="4356000" y="5659560"/>
            <a:ext cx="432000" cy="65088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ff99"/>
              </a:gs>
              <a:gs pos="50000">
                <a:srgbClr val="006666"/>
              </a:gs>
              <a:gs pos="100000">
                <a:srgbClr val="ccff99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AutoShape 39"/>
          <p:cNvSpPr/>
          <p:nvPr/>
        </p:nvSpPr>
        <p:spPr>
          <a:xfrm>
            <a:off x="4356000" y="3284640"/>
            <a:ext cx="432000" cy="65088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ff99"/>
              </a:gs>
              <a:gs pos="50000">
                <a:srgbClr val="006666"/>
              </a:gs>
              <a:gs pos="100000">
                <a:srgbClr val="ccff99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Text Box 28"/>
          <p:cNvSpPr/>
          <p:nvPr/>
        </p:nvSpPr>
        <p:spPr>
          <a:xfrm>
            <a:off x="179280" y="2924280"/>
            <a:ext cx="4176720" cy="12351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eaeaea"/>
                </a:solidFill>
                <a:latin typeface="Arial"/>
              </a:rPr>
              <a:t>«Положение об особенностях обработки персональных данных, осуществляемой без использования средств автоматизации», утв. постановлением Правительства РФ №687 от 15.09.2008 </a:t>
            </a:r>
            <a:endParaRPr b="0" lang="en-US" sz="15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Text Box 36"/>
          <p:cNvSpPr/>
          <p:nvPr/>
        </p:nvSpPr>
        <p:spPr>
          <a:xfrm>
            <a:off x="4788000" y="3141720"/>
            <a:ext cx="4176720" cy="1067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75755e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Устанавливает требования по обеспечению безопасности персональных данных при обработке без использования средств автоматизации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50920" y="260280"/>
            <a:ext cx="74167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Основные законодательные и нормативные правовые акты в области персональных данных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Ответственность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1280" y="2060640"/>
            <a:ext cx="90727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Кодекс Российской Федерации об административных правонарушениях (Федеральный закон от 30.12.2001 № 195-ФЗ)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ст. 5.39. Отказ в предоставлении гражданину информации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ст. 13.11. Нарушение установленного законом порядка сбора, хранения, использования или распространения информации о гражданах (персональных данных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ст. 13.14. Разглашение информации с ограниченным доступом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ст. 19.7. Непредставление сведений (информации)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Уголовный кодекс Российской Федерации (Федеральный закон от 13.06.1996 № 63-ФЗ)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ст. 137. Нарушение неприкосновенности частной жизни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724880" y="0"/>
            <a:ext cx="141912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Перечень документов необходимых оператору при обработке персональных данных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1152360"/>
            <a:ext cx="914400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just">
              <a:lnSpc>
                <a:spcPct val="100000"/>
              </a:lnSpc>
              <a:spcBef>
                <a:spcPts val="1125"/>
              </a:spcBef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Положение об обработке и защите персональных данных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25"/>
              </a:spcBef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Порядок обработки персональных данных работников (обязательно ознакомить всех работников и их представителей  </a:t>
            </a:r>
            <a:r>
              <a:rPr b="1" i="1" lang="en-US" sz="1800" spc="-1" strike="noStrike">
                <a:solidFill>
                  <a:srgbClr val="eaeaea"/>
                </a:solidFill>
                <a:latin typeface="Verdana"/>
              </a:rPr>
              <a:t>под роспись</a:t>
            </a: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с данным порядком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)</a:t>
            </a: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25"/>
              </a:spcBef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Перечень лиц или подразделений, ответственных за безопасность персональных данных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25"/>
              </a:spcBef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Перечень лиц, допущенных к обработке персональных данных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25"/>
              </a:spcBef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Перечень лиц, имеющих право доступа к персональным данным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25"/>
              </a:spcBef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Перечень мест хранения персональных данных (материальных носителей)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Обязанности оператор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836640"/>
            <a:ext cx="914400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Оператор обязан принимать меры, необходимые и достаточные для обеспечения выполнения обязанностей, предусмотренных Федеральным законом и иными соответствующими НПА. Состав и перечень таких мер определяется оператором </a:t>
            </a:r>
            <a:r>
              <a:rPr b="1" lang="en-US" sz="2000" spc="-1" strike="noStrike" u="sng">
                <a:solidFill>
                  <a:srgbClr val="eaeaea"/>
                </a:solidFill>
                <a:uFillTx/>
                <a:latin typeface="Verdana"/>
              </a:rPr>
              <a:t>самостоятельно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. К таким мерам могут, в частности, относиться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1.Назначение оператором, являющимся юридическим лицом, ответственного за организацию обработки персональных данных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2.Издание оператором документов, определяющих политику оператора в отношении обработки персональных данных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3.Применение правовых, организационных и   технических мер по обеспечению безопасности персональных данных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4.Ознакомление работников оператора, осуществляющих обработку персональных данных, с положениями законодательства РФ о персональных данных и обучение работников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549360"/>
            <a:ext cx="914400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200" spc="-1" strike="noStrike">
                <a:solidFill>
                  <a:srgbClr val="eaeaea"/>
                </a:solidFill>
                <a:latin typeface="Verdana"/>
              </a:rPr>
              <a:t>Оператор обязан </a:t>
            </a:r>
            <a:r>
              <a:rPr b="1" lang="en-US" sz="2200" spc="-1" strike="noStrike" u="sng">
                <a:solidFill>
                  <a:srgbClr val="eaeaea"/>
                </a:solidFill>
                <a:uFillTx/>
                <a:latin typeface="Verdana"/>
              </a:rPr>
              <a:t>опубликовать</a:t>
            </a:r>
            <a:r>
              <a:rPr b="1" lang="en-US" sz="2200" spc="-1" strike="noStrike">
                <a:solidFill>
                  <a:srgbClr val="eaeaea"/>
                </a:solidFill>
                <a:latin typeface="Verdana"/>
              </a:rPr>
              <a:t> или иным образом обеспечить неограниченный доступ к документу, определяющему его политику, в отношении обработки персональных данных, к сведениям о реализуемых требованиях к защите персональных данных.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200" spc="-1" strike="noStrike">
                <a:solidFill>
                  <a:srgbClr val="eaeaea"/>
                </a:solidFill>
                <a:latin typeface="Verdana"/>
              </a:rPr>
              <a:t>Оператор обязан </a:t>
            </a:r>
            <a:r>
              <a:rPr b="1" lang="en-US" sz="2200" spc="-1" strike="noStrike" u="sng">
                <a:solidFill>
                  <a:srgbClr val="eaeaea"/>
                </a:solidFill>
                <a:uFillTx/>
                <a:latin typeface="Verdana"/>
              </a:rPr>
              <a:t>предоставить документы</a:t>
            </a:r>
            <a:r>
              <a:rPr b="1" lang="en-US" sz="2200" spc="-1" strike="noStrike">
                <a:solidFill>
                  <a:srgbClr val="eaeaea"/>
                </a:solidFill>
                <a:latin typeface="Verdana"/>
              </a:rPr>
              <a:t> и локальные акты определяющие обработку персональных данных и (или) иным образом подтвердить принятие мер по запросу уполномоченного органа по защите прав субъектов персональных данных.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200" spc="-1" strike="noStrike">
                <a:solidFill>
                  <a:srgbClr val="eaeaea"/>
                </a:solidFill>
                <a:latin typeface="Verdana"/>
              </a:rPr>
              <a:t>Оператор обязан </a:t>
            </a:r>
            <a:r>
              <a:rPr b="1" lang="en-US" sz="2200" spc="-1" strike="noStrike" u="sng">
                <a:solidFill>
                  <a:srgbClr val="eaeaea"/>
                </a:solidFill>
                <a:uFillTx/>
                <a:latin typeface="Verdana"/>
              </a:rPr>
              <a:t>сообщить в уполномоченный орган</a:t>
            </a:r>
            <a:r>
              <a:rPr b="1" lang="en-US" sz="2200" spc="-1" strike="noStrike">
                <a:solidFill>
                  <a:srgbClr val="eaeaea"/>
                </a:solidFill>
                <a:latin typeface="Verdana"/>
              </a:rPr>
              <a:t> по защите прав субъектов персональных данных по запросу этого органа необходимую информацию в течение тридцати дней с даты получения такого запроса</a:t>
            </a: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Обязанности оператор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07:56:23Z</dcterms:created>
  <dc:creator>new</dc:creator>
  <dc:description/>
  <dc:language>en-US</dc:language>
  <cp:lastModifiedBy>hamitov</cp:lastModifiedBy>
  <dcterms:modified xsi:type="dcterms:W3CDTF">2012-01-16T07:39:18Z</dcterms:modified>
  <cp:revision>85</cp:revision>
  <dc:subject/>
  <dc:title>Слайд 1</dc:title>
</cp:coreProperties>
</file>